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087-AA2E-4A16-8858-AF2B5DA3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31B-6A99-4E72-BFDD-7CFA4549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67F-691F-4E90-A6AF-CEDD0DD9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964-0747-4A47-BB8A-E4779000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F41A-8C2F-4505-AD96-FB44FE3B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22C-07EA-40B9-8A3E-DD0FBFBF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DC55-1927-44E8-8A80-933C4605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E381-D63B-4044-9AA5-54F89945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74F4-2B87-463B-8CC5-A4DAD8E1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6F3D-C430-44DD-A2A8-148C67CD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BF97-DCF8-414D-B103-BDDA54D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85E-3243-430A-8054-CA45C108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8AE8-BAB1-4CED-A71F-A5B33CE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4479-C8EE-4522-ABE5-0F7CF80D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AE72-1DD2-4542-B396-1903467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B4A3-2163-4774-BDEE-E1861E2E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8E0F-F780-4881-9B03-6E48CA7C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274-5B54-477B-8A2F-2AAF77B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6C5-C21C-4A9D-AB91-8DB0B9E9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95E-0C3A-4DDD-AB4A-F858868A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75B-0999-40C0-8252-11C82FAA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D96-4E5B-44B7-8EF0-6520BD4C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897-8D0B-4B7F-AFA3-5455F5F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93B-49F8-4081-A2CC-2C6962FB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E557-C600-41E0-984C-83C04FAA84E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BCB4-47C2-4F04-BA90-BF2D8191063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8600" spc="-1" strike="noStrike">
                <a:solidFill>
                  <a:srgbClr val="dbf5f9"/>
                </a:solidFill>
                <a:latin typeface="Calibri"/>
                <a:cs typeface="Traditional Arabic"/>
              </a:rPr>
              <a:t>بسم الله الرحمن الرحيم</a:t>
            </a:r>
            <a:endParaRPr b="0" lang="en-US" sz="8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surgicalnotes.co.uk/files/images/liverposterior.png"/>
          <p:cNvPicPr/>
          <p:nvPr/>
        </p:nvPicPr>
        <p:blipFill>
          <a:blip r:embed="rId2"/>
          <a:stretch/>
        </p:blipFill>
        <p:spPr>
          <a:xfrm>
            <a:off x="684360" y="260280"/>
            <a:ext cx="79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4757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Quadrate lob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571760"/>
            <a:ext cx="4281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is a rectangular part of the inferior surface of liver. It is bounded by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inferior border of liver (inf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porta hepatis (post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gall bladder fossa (on the right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fissure for ligam.teres (on left side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*It is related to: transverse colon (ant), pylorus&amp; 1st part of duodenum (middle) and lesser omentum (post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7" name="Picture 5" descr="C:\Documents and Settings\Main\Desktop\2\5.jpg"/>
          <p:cNvPicPr/>
          <p:nvPr/>
        </p:nvPicPr>
        <p:blipFill>
          <a:blip r:embed="rId2"/>
          <a:stretch/>
        </p:blipFill>
        <p:spPr>
          <a:xfrm>
            <a:off x="4786200" y="228600"/>
            <a:ext cx="40006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Documents and Settings\Main\Desktop\2\6.jpg"/>
          <p:cNvPicPr/>
          <p:nvPr/>
        </p:nvPicPr>
        <p:blipFill>
          <a:blip r:embed="rId3"/>
          <a:stretch/>
        </p:blipFill>
        <p:spPr>
          <a:xfrm>
            <a:off x="4640400" y="3786120"/>
            <a:ext cx="4289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Porta hepati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1357200"/>
            <a:ext cx="4281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forms the hilum of the liver. Anteriorly, it is bounded by quadrate lobe and posteriorly, by caudate lobe and proces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Constantia"/>
              </a:rPr>
              <a:t>Structures passing through porta hepati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. Hepatic ducts: ant. In posi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. Hepatic artery: intermediate in posi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. Portal vein: posterior in posi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. Lymphatic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gives attachment to lesser omentum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Picture 5" descr="C:\Documents and Settings\Main\Desktop\2\7.jpg"/>
          <p:cNvPicPr/>
          <p:nvPr/>
        </p:nvPicPr>
        <p:blipFill>
          <a:blip r:embed="rId2"/>
          <a:stretch/>
        </p:blipFill>
        <p:spPr>
          <a:xfrm>
            <a:off x="4643280" y="1268280"/>
            <a:ext cx="4380120" cy="291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t3.gstatic.com/images?q=tbn:ANd9GcSlzP3EPAyEwjArr5zttK79M2c4H8pxbcw8B9aFKcXMY2zpF0G-"/>
          <p:cNvPicPr/>
          <p:nvPr/>
        </p:nvPicPr>
        <p:blipFill>
          <a:blip r:embed="rId3"/>
          <a:stretch/>
        </p:blipFill>
        <p:spPr>
          <a:xfrm>
            <a:off x="5292720" y="4365720"/>
            <a:ext cx="3166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Main\Desktop\liver\liverDiagram2.jpg"/>
          <p:cNvPicPr/>
          <p:nvPr/>
        </p:nvPicPr>
        <p:blipFill>
          <a:blip r:embed="rId2"/>
          <a:stretch/>
        </p:blipFill>
        <p:spPr>
          <a:xfrm>
            <a:off x="611280" y="333360"/>
            <a:ext cx="7848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Blood supply of liv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36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receives blood from two sourc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Hepatic arteri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hich divides into right , left branch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Portal vein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hich divides into right , left branche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venous drainag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by three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hepatic vei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hich terminate in the IVC( right, left, middle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6" name="Picture 5" descr="C:\Documents and Settings\Main\Desktop\2\13.jpg"/>
          <p:cNvPicPr/>
          <p:nvPr/>
        </p:nvPicPr>
        <p:blipFill>
          <a:blip r:embed="rId2"/>
          <a:stretch/>
        </p:blipFill>
        <p:spPr>
          <a:xfrm>
            <a:off x="4518000" y="1928880"/>
            <a:ext cx="43592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Lymphatic drainage of liver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iver is drained by portal lymph nod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into the coeliac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re area of the liver drains into subphrenic lymph nodes, or posterior mediastinal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Peritoneal connections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642680"/>
            <a:ext cx="4038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1- Falciform ligamen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2- Upper layer of coronary ligamen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3- Lower layer of coronary ligamen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4- Right triangular ligament. Lower triangular ligamen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5- Lesser omentum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Picture 2" descr="C:\Documents and Settings\Main\Desktop\liver\20061102_liver.jpg"/>
          <p:cNvPicPr/>
          <p:nvPr/>
        </p:nvPicPr>
        <p:blipFill>
          <a:blip r:embed="rId2"/>
          <a:stretch/>
        </p:blipFill>
        <p:spPr>
          <a:xfrm>
            <a:off x="4140360" y="1989000"/>
            <a:ext cx="5003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3300"/>
                </a:solidFill>
                <a:uFillTx/>
                <a:latin typeface="Calibri"/>
              </a:rPr>
              <a:t>Embryonic reminants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840" y="1196640"/>
            <a:ext cx="4281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Ligamentum te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connects the umblicus with the left branch of portal vein. It represents the obliterated umblical ve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Ligamentum venosum: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connects the left branch of portal vein with the IVC. . It represents the obliterated ductus venosu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3" name="Picture 5" descr="C:\Documents and Settings\Main\Desktop\2\12.jpg"/>
          <p:cNvPicPr/>
          <p:nvPr/>
        </p:nvPicPr>
        <p:blipFill>
          <a:blip r:embed="rId2"/>
          <a:stretch/>
        </p:blipFill>
        <p:spPr>
          <a:xfrm>
            <a:off x="4572000" y="1498680"/>
            <a:ext cx="40719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3672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Areas of the liver not covered by peritoneu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Bare are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Groove for IV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Porta hepat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- Fossa of gall blad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- Fissures for ligamentum teres and for ligamentum venos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695" descr="http://www.newsperuvian.com/wp-content/uploads/2011/05/liver-anatomy-3.jpg"/>
          <p:cNvPicPr/>
          <p:nvPr/>
        </p:nvPicPr>
        <p:blipFill>
          <a:blip r:embed="rId2"/>
          <a:stretch/>
        </p:blipFill>
        <p:spPr>
          <a:xfrm>
            <a:off x="3851280" y="476280"/>
            <a:ext cx="5292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dbf5f9"/>
                </a:solidFill>
                <a:uFillTx/>
                <a:latin typeface="Calibri"/>
              </a:rPr>
              <a:t>Hepatic segmentation (surgical)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2920" y="1214280"/>
            <a:ext cx="4068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t depends on the vascular distribution to the liver (according to the venous drainage by the hepatic veins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t is divided into right and left lobes by an imaginary line passing through IVC and fossa of gall bladder. This includes caudate, quadrate lobes as parts of left lobe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Content Placeholder 6" descr="http://www.nucmedinfo.com/Anatomy/Liversegments.gif"/>
          <p:cNvPicPr/>
          <p:nvPr/>
        </p:nvPicPr>
        <p:blipFill>
          <a:blip r:embed="rId2"/>
          <a:stretch/>
        </p:blipFill>
        <p:spPr>
          <a:xfrm>
            <a:off x="5364000" y="2133720"/>
            <a:ext cx="345780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652320" y="1628640"/>
            <a:ext cx="84916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00"/>
                </a:solidFill>
                <a:uFillTx/>
                <a:latin typeface="Calibri"/>
              </a:rPr>
              <a:t>Surface anatomy of liver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483920"/>
            <a:ext cx="4500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Superior surfac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from the 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eft intercostal space in the mid clavicular line to  the upper border of right 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stal cartilages in right lateral plane, to the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b in mid axillary li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Right bord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from right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-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bs (mid axill. line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undus of gall bladder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p of 9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stal cartilage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6786720" y="271476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UPC"/>
                <a:ea typeface="AngsanaUPC"/>
              </a:rPr>
              <a:t>Lt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gsanaUPC"/>
                <a:ea typeface="AngsanaUPC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ngsanaUPC"/>
                <a:ea typeface="AngsanaUPC"/>
              </a:rPr>
              <a:t> space,midaxillary l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http://bookdome.com/health/anatomy/Surface-Markings-Human-Body/images/The-Liver-Anterior-Abdominal-Wall-Etc.jpg"/>
          <p:cNvPicPr/>
          <p:nvPr/>
        </p:nvPicPr>
        <p:blipFill>
          <a:blip r:embed="rId2"/>
          <a:stretch/>
        </p:blipFill>
        <p:spPr>
          <a:xfrm>
            <a:off x="4986360" y="1557360"/>
            <a:ext cx="3600360" cy="51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511280" y="1386000"/>
          <a:ext cx="6095880" cy="406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1280" y="1386000"/>
                    <a:ext cx="60958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133200" y="1603440"/>
            <a:ext cx="8529840" cy="2755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285840" y="44290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Prof.: Dr. Shawky Tay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428400"/>
            <a:ext cx="8143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Site: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lies under the diaphragm, in the right hypochondrium, epigastrium and left hypochonderi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nstantia"/>
              </a:rPr>
              <a:t>Shape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t is wedge shaped. It has five surfaces: superior, inferior, anterior, posterior and right surfac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Picture 2" descr="C:\Documents and Settings\Main\Desktop\liver\120858-main_Full.jpg"/>
          <p:cNvPicPr/>
          <p:nvPr/>
        </p:nvPicPr>
        <p:blipFill>
          <a:blip r:embed="rId2"/>
          <a:stretch/>
        </p:blipFill>
        <p:spPr>
          <a:xfrm>
            <a:off x="182520" y="2786040"/>
            <a:ext cx="4203720" cy="37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Main\Desktop\2\2.jpg"/>
          <p:cNvPicPr/>
          <p:nvPr/>
        </p:nvPicPr>
        <p:blipFill>
          <a:blip r:embed="rId3"/>
          <a:stretch/>
        </p:blipFill>
        <p:spPr>
          <a:xfrm>
            <a:off x="4572000" y="3214800"/>
            <a:ext cx="43578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00"/>
                </a:solidFill>
                <a:uFillTx/>
                <a:latin typeface="Calibri"/>
              </a:rPr>
              <a:t>Lobes of the liver (4)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480" y="1125000"/>
            <a:ext cx="4430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formed of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righ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arge and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lef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mall lobes by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. The attachment of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falciform ligamen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ant. and superior surface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. Fissure for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lig. Venosum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post. surfa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. Fissure for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lig. teres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inferior surfa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also contains the 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caudat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quadrat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ob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2" name="Picture 2" descr="C:\Documents and Settings\Main\Desktop\liver\liver-gallbladder01.jpg"/>
          <p:cNvPicPr/>
          <p:nvPr/>
        </p:nvPicPr>
        <p:blipFill>
          <a:blip r:embed="rId2"/>
          <a:stretch/>
        </p:blipFill>
        <p:spPr>
          <a:xfrm>
            <a:off x="4859280" y="1268280"/>
            <a:ext cx="410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300"/>
                </a:solidFill>
                <a:uFillTx/>
                <a:latin typeface="Calibri"/>
              </a:rPr>
              <a:t>Relations of the liv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840" y="1499760"/>
            <a:ext cx="42814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iaphragm and base of right lung and pleura are related to the superior, anterior and right surface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Anterior surface 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is als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elated to Ant. Abd. W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Superior surface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 also related to heart, pericardi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Right surface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 also related to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o 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b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5" name="Picture 5" descr="C:\Documents and Settings\Main\Desktop\2\3.jpg"/>
          <p:cNvPicPr/>
          <p:nvPr/>
        </p:nvPicPr>
        <p:blipFill>
          <a:blip r:embed="rId2"/>
          <a:stretch/>
        </p:blipFill>
        <p:spPr>
          <a:xfrm>
            <a:off x="4433760" y="2214720"/>
            <a:ext cx="46310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4878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189000"/>
            <a:ext cx="87505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Constantia"/>
              </a:rPr>
              <a:t>posterior surface of the liv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12760" indent="-212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rmed by: bare area, groove for IVC, caudate lobe, fissure for ligamentum venosum and oesophageal notch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12760" indent="-212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Bare area of liver: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 triangular area related directely to the diaphragm , its base is formed by the groove for IVC, its apex is formed by right triangular ligament, its sides are the two layers of coronary ligament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Picture 5" descr="C:\Documents and Settings\Main\Desktop\2\4.jpg"/>
          <p:cNvPicPr/>
          <p:nvPr/>
        </p:nvPicPr>
        <p:blipFill>
          <a:blip r:embed="rId2"/>
          <a:stretch/>
        </p:blipFill>
        <p:spPr>
          <a:xfrm>
            <a:off x="1403280" y="2852640"/>
            <a:ext cx="640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http://www.newsperuvian.com/wp-content/uploads/2011/05/liver-anatomy-3.jpg"/>
          <p:cNvPicPr/>
          <p:nvPr/>
        </p:nvPicPr>
        <p:blipFill>
          <a:blip r:embed="rId2"/>
          <a:stretch/>
        </p:blipFill>
        <p:spPr>
          <a:xfrm>
            <a:off x="1403280" y="189000"/>
            <a:ext cx="6337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Main\Desktop\liver\liverDiagram1.jpg"/>
          <p:cNvPicPr/>
          <p:nvPr/>
        </p:nvPicPr>
        <p:blipFill>
          <a:blip r:embed="rId1"/>
          <a:stretch/>
        </p:blipFill>
        <p:spPr>
          <a:xfrm>
            <a:off x="1103400" y="1077840"/>
            <a:ext cx="64688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434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88640"/>
            <a:ext cx="8640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onstantia"/>
              </a:rPr>
              <a:t>Inferior surface</a:t>
            </a:r>
            <a:r>
              <a:rPr b="0" lang="en-US" sz="3200" spc="-1" strike="noStrike">
                <a:solidFill>
                  <a:srgbClr val="ff330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it shows the following features and impression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. Gastric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. Fissure for ligamentum ter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. Quadrate lob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. Fossa for gall bladd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. Duodenal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. Renal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. Supra renal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. Colic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Content Placeholder 5" descr="C:\Documents and Settings\Main\Desktop\2\4.jpg"/>
          <p:cNvPicPr/>
          <p:nvPr/>
        </p:nvPicPr>
        <p:blipFill>
          <a:blip r:embed="rId2"/>
          <a:stretch/>
        </p:blipFill>
        <p:spPr>
          <a:xfrm>
            <a:off x="3780000" y="1989000"/>
            <a:ext cx="536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0T18:45:38Z</dcterms:created>
  <dc:creator>Main</dc:creator>
  <dc:description/>
  <dc:language>en-US</dc:language>
  <cp:lastModifiedBy>Prof. Dr. Shawky</cp:lastModifiedBy>
  <dcterms:modified xsi:type="dcterms:W3CDTF">2014-04-21T18:29:02Z</dcterms:modified>
  <cp:revision>60</cp:revision>
  <dc:subject/>
  <dc:title>Anatomy of liver</dc:title>
</cp:coreProperties>
</file>